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images.google.com.au/imgres?imgurl=http://www.freesignage.co.uk/pdfthumbs/prohibition/no_dogs_prohibition_sign.png&amp;imgrefurl=http://www.freesignage.co.uk/prohibition_signs.php&amp;usg=__xuhwxnFpeMBHgmJtE9oc1TReEsE=&amp;h=248&amp;w=188&amp;sz=17&amp;hl=en&amp;start=19&amp;um=1&amp;tbnid=W7nJbeHeo8HRyM:&amp;tbnh=111&amp;tbnw=84&amp;prev=/images%3Fq%3Dswimming%2Bsigns%2Bno%2Bdogs%26ndsp%3D18%26hl%3Den%26sa%3DN%26start%3D18%26um%3D1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don't bring 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ress as a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ring do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eat a do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 see this sign what do you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302080" y="2467080"/>
            <a:ext cx="80028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o you have to get a fishing license for a ki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9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hy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you aloud to bring food or glass into the po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AutoShape 80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un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5"/>
          <p:cNvSpPr/>
          <p:nvPr/>
        </p:nvSpPr>
        <p:spPr>
          <a:xfrm>
            <a:off x="533520" y="6095880"/>
            <a:ext cx="33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find a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ell out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help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76"/>
          <p:cNvSpPr/>
          <p:nvPr/>
        </p:nvSpPr>
        <p:spPr>
          <a:xfrm>
            <a:off x="698400" y="746280"/>
            <a:ext cx="5181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do when you see a kid drowning and there's no lifeguard arou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g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Text Box 76"/>
          <p:cNvSpPr/>
          <p:nvPr/>
        </p:nvSpPr>
        <p:spPr>
          <a:xfrm>
            <a:off x="711360" y="7588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should you look for while swimming in a riv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5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80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wim under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5"/>
          <p:cNvSpPr/>
          <p:nvPr/>
        </p:nvSpPr>
        <p:spPr>
          <a:xfrm>
            <a:off x="533520" y="6095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wim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ho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cream a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3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4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do if you see  boat in the w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2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0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just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ake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ell some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8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9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hould you do before swimm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6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7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81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h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un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ba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should you always wear when swimm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80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c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5"/>
          <p:cNvSpPr/>
          <p:nvPr/>
        </p:nvSpPr>
        <p:spPr>
          <a:xfrm>
            <a:off x="533520" y="6095880"/>
            <a:ext cx="29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sk for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r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17"/>
          <p:cNvSpPr/>
          <p:nvPr/>
        </p:nvSpPr>
        <p:spPr>
          <a:xfrm>
            <a:off x="491508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ut you head in the    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do when you get stung by a jellyfis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c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a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ki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lert some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 you do if you see a shar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otally  </a:t>
            </a:r>
            <a:r>
              <a:rPr b="1" lang="en-US" sz="24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you aloud to swim drun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do a back f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5"/>
          <p:cNvSpPr/>
          <p:nvPr/>
        </p:nvSpPr>
        <p:spPr>
          <a:xfrm>
            <a:off x="533520" y="6095880"/>
            <a:ext cx="35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hrow a chicke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row a stick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do you no how fast the river is mov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160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Clo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6095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lean clo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a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should you wear when you go swimm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94360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When its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hen your 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hen its c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724280" y="6035760"/>
            <a:ext cx="38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hen there's no                                guard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shouldn’t you go swimmi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inish this this sentence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lip, Slop, 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18T00:13:18Z</dcterms:modified>
  <cp:revision>21</cp:revision>
  <dc:subject/>
  <dc:title>No Slide Title</dc:title>
</cp:coreProperties>
</file>